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A361-0F4F-4B92-BCF7-A6E5C9001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C9E1-1DC5-410A-BC77-C7943323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3B57-15D3-4F59-87DF-610457DA1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C9EA-D211-4A24-BE3D-7F7B63F2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A0E7-4E2E-4CF4-BB83-E86666E9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B0F4-5433-48BC-95CF-D1C2E9F7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BE2F-0107-4F88-AF1D-288C3580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ADF0-FF74-414E-A387-4773CF5E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85CB-BB31-48E7-AF84-9D08CE9D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B78A-5581-4229-9135-9222D878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DED8-DB90-4979-82DF-C95732AF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9B3B-FD24-44B0-A76B-B7DCDABD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68D9-3B98-4616-AC35-261B85A5AA4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-50760"/>
            <a:ext cx="8458200" cy="69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80"/>
                </a:solidFill>
                <a:latin typeface="Book Antiqua"/>
                <a:ea typeface="Times New Roman"/>
              </a:rPr>
              <a:t>Ministero dell’Istruzione dell’Università e della Rice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80"/>
                </a:solidFill>
                <a:latin typeface="Arial Narrow"/>
                <a:ea typeface="Times New Roman"/>
              </a:rPr>
              <a:t>Ufficio Scolastico Regionale per il Friuli Venezia Giulia- Direzione Gene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80"/>
                </a:solidFill>
                <a:latin typeface="Arial Narrow"/>
                <a:ea typeface="Times New Roman"/>
              </a:rPr>
              <a:t> </a:t>
            </a:r>
            <a:r>
              <a:rPr b="1" i="1" lang="it-IT" sz="2000" spc="-1" strike="noStrike">
                <a:solidFill>
                  <a:srgbClr val="000080"/>
                </a:solidFill>
                <a:latin typeface="Arial Black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80"/>
                </a:solidFill>
                <a:latin typeface="Arial Black"/>
                <a:ea typeface="Times New Roman"/>
              </a:rPr>
              <a:t>Proge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80"/>
                </a:solidFill>
                <a:latin typeface="Arial Narro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80"/>
                </a:solidFill>
                <a:latin typeface="Arial Narrow"/>
                <a:ea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80"/>
                </a:solidFill>
                <a:latin typeface="Arial Narrow"/>
                <a:ea typeface="Times New Roman"/>
              </a:rPr>
              <a:t>Processi Valutativi Region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80"/>
                </a:solidFill>
                <a:latin typeface="Arial Narrow"/>
                <a:ea typeface="Times New Roman"/>
              </a:rPr>
              <a:t>Presentazione dei risultati della ricerca SWG sulla valutazione del servizio scolastico in provincia di Trie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80"/>
                </a:solidFill>
                <a:latin typeface="Arial Narrow"/>
                <a:ea typeface="Times New Roman"/>
              </a:rPr>
              <a:t> </a:t>
            </a:r>
            <a:r>
              <a:rPr b="1" lang="it-IT" sz="2000" spc="-1" strike="noStrike">
                <a:solidFill>
                  <a:srgbClr val="000080"/>
                </a:solidFill>
                <a:latin typeface="Arial Narro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80"/>
                </a:solidFill>
                <a:latin typeface="Arial Narrow"/>
                <a:ea typeface="Times New Roman"/>
              </a:rPr>
              <a:t>Trieste, 12 dicembre 2003 – ore 17.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80"/>
                </a:solidFill>
                <a:latin typeface="Arial Narrow"/>
                <a:ea typeface="Times New Roman"/>
              </a:rPr>
              <a:t> </a:t>
            </a:r>
            <a:r>
              <a:rPr b="1" i="1" lang="it-IT" sz="2000" spc="-1" strike="noStrike">
                <a:solidFill>
                  <a:srgbClr val="003399"/>
                </a:solidFill>
                <a:latin typeface="Arial Narrow"/>
                <a:ea typeface="Times New Roman"/>
              </a:rPr>
              <a:t>Aula Magna del Liceo Scientifico ‘G. Galilei’</a:t>
            </a:r>
            <a:r>
              <a:rPr b="1" i="1" lang="it-IT" sz="2000" spc="-1" strike="noStrike">
                <a:solidFill>
                  <a:srgbClr val="0066ff"/>
                </a:solidFill>
                <a:latin typeface="Arial Narro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352680" y="2743200"/>
            <a:ext cx="228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PRO.VA.RE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6705720" y="2666880"/>
          <a:ext cx="68580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2666880"/>
                    <a:ext cx="68580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685800" y="380880"/>
          <a:ext cx="7696080" cy="5772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80880"/>
                    <a:ext cx="7696080" cy="57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762120" y="571680"/>
          <a:ext cx="7619760" cy="5715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71680"/>
                    <a:ext cx="76197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838080"/>
            <a:ext cx="838188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cccc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Progetto Pro.Va.Re., promosso e coordinato dalla Direzione Generale del MIUR per il Friuli Venezia Giulia,  si propone di costruire e sviluppare un sistema integrato di valutazione del servizio scolastico, al fine di migliorare il funzionamento delle istituzioni scolastiche, l’offerta formativa e gli apprendimenti degli alunn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cccc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cccc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progetto si articola in quattro percorsi strettamente interconness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tazione del serviz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tazione del P.O.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tazione degli apprendimenti degli alun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tazione dei processi di insegnamento/apprend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cccc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13 scuole di Trieste, la valutazione del servizio è stata realizzata nell’a.s. 2002-2003, dall’agenzia SWG Tries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cccc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685800" y="304920"/>
          <a:ext cx="7696080" cy="573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4920"/>
                    <a:ext cx="7696080" cy="57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85800" y="533520"/>
          <a:ext cx="7543800" cy="5657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33520"/>
                    <a:ext cx="7543800" cy="56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762120" y="685800"/>
          <a:ext cx="7696080" cy="5334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85800"/>
                    <a:ext cx="76960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838080" y="457200"/>
          <a:ext cx="7620120" cy="5715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57200"/>
                    <a:ext cx="76201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838080" y="457200"/>
          <a:ext cx="7315200" cy="5486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57200"/>
                    <a:ext cx="73152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762120" y="457200"/>
          <a:ext cx="7467480" cy="56008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57200"/>
                    <a:ext cx="7467480" cy="560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914400" y="533520"/>
          <a:ext cx="7238880" cy="5429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33520"/>
                    <a:ext cx="7238880" cy="54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1T13:45:52Z</dcterms:created>
  <dc:creator>ZOCCHI</dc:creator>
  <dc:description/>
  <dc:language>en-US</dc:language>
  <cp:lastModifiedBy>ZOCCHI</cp:lastModifiedBy>
  <dcterms:modified xsi:type="dcterms:W3CDTF">2003-12-11T14:53:40Z</dcterms:modified>
  <cp:revision>9</cp:revision>
  <dc:subject/>
  <dc:title>Presentazione di PowerPoint</dc:title>
</cp:coreProperties>
</file>